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17E3-82FB-45EF-A4BC-30E6837E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E26-3D58-4115-92F2-DCCFFAE9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19F-A415-4BAC-A891-0A135312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C40-D7EA-4531-AD57-76405B36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AE65-A867-4EC4-AAF3-9CBBDB24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BD40-4D08-4A76-820C-AD270D5F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7499-C40C-4A9A-8C88-1F94031B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32F6-A150-4937-AC18-31343A23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1E54-5690-4C80-9458-B6F118C1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8728-1E91-4E80-A313-F695AA58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2178-ACE2-4DD3-8E52-AF06C6A5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2D8-549F-4F79-B148-178FFD76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2E60-BF61-45BC-89D7-A8423BA3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9B63-9BBA-4C4A-8F4F-E7CD6BE2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3956-14AF-46EA-A5E3-05041D92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D83B-0522-4221-987E-668E3014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8189-C27E-4F66-9720-F39FC72B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867-EF9A-440B-BF48-BFCA1CD5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0D3-FBC9-4454-97DE-DCAC3751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1B5-32AD-4B41-B46C-D1C738ED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AEC-2354-4B9F-914A-564B6B2D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5A5-DA02-4DBB-B1AF-285153F5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938-6300-4123-8DE6-8FC2255B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1EC-7D52-41AA-B5F0-8B866AD9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A01A-FA53-4BBA-A670-C12AE5401FC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8C65-56B2-46F7-8F35-20B36EA25AF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CCD79E1D-D88F-4E26-99AE-181291C89B4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428760" y="1357200"/>
            <a:ext cx="521496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tenses are the following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λεπ - 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 - 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 - ε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σ - 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γ - 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4429080" y="2259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429080" y="28684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429080" y="34974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429080" y="4106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4429080" y="4708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429080" y="52322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CD74C285-5E26-49A9-A4FC-04BD700598D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ησ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σεκυνου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ἰτησου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τηρησ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ζητ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ὐχαριστησ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ᾠκοδομησα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5106960" y="2170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5102280" y="26654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will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5102280" y="3184560"/>
            <a:ext cx="32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ere worsh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5099040" y="3693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ill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5099040" y="41846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k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5099040" y="47005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were see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5102280" y="520704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gave 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102280" y="5715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5BEF26E5-5311-4575-997E-C4F0372AF30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28760" y="1417680"/>
            <a:ext cx="7643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Greek tenses are correct for the followin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ere he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used to 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are thr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429080" y="2259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4429080" y="2813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429080" y="33465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4429080" y="3902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4429080" y="44496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4429080" y="50133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98FFA7A4-DB84-491C-AE35-4B87C360742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28760" y="1357200"/>
            <a:ext cx="52149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εμ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απτιζο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429080" y="22716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429080" y="288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429080" y="351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s s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429080" y="41022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s bap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4429080" y="47372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bel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4429080" y="5369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F9A20627-9AE0-4750-9C4B-38633B8E244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00040" y="1228680"/>
            <a:ext cx="48578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υσα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ετ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πιστευσα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υσ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are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ill bel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pl.) were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60840" y="204300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were thr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57600" y="25113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unt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57600" y="29703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pl.) will h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57600" y="343224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sing.) are throwing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557600" y="387504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bel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557600" y="43275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ill se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4560840" y="47592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φ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554360" y="52182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στευσ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4557600" y="56815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αμβανετ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56805B6F-3892-4668-9518-32254F3C50E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57120" y="1357200"/>
            <a:ext cx="5214960" cy="50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εν τον ὀχ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ἀκουσει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ἁγιοι ἐχουσιν τον νομ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σομεν το πλο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α τον λογον ἐπιστευσα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714920" y="22590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was teaching the crow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4714920" y="288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will hear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714920" y="34974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oly ones have th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4714920" y="4089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ill untie the b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4714920" y="473724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you believe because of the wo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714920" y="549432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were speaking about the king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07520" y="5322960"/>
            <a:ext cx="3890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ον περι της βασιλεια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234B26AA-6B3C-4469-B8A9-1EFAEBFFC5D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14200" y="1190520"/>
            <a:ext cx="4357800" cy="59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ως ἀπολυσεις αὐτ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δελφοι οὐκ ἐπιστευ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used to take the b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believed the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good master will set free the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used to speak but now I will 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4714920" y="2098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will you divorce 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714920" y="27036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rothers did not belie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714920" y="325908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αμβανομεν το πλοι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714920" y="378612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αν τῳ θε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4714920" y="437976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γαθος κυριος ἀπολυσει τους δουλου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4714920" y="545940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ον ἀλλα νυν ἀκουσ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2F6942E6-728E-4429-A58A-A846AA44B4D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se verbs into the Imperfect (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πα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λαμβαν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καλυπτ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5106960" y="217008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5102280" y="26654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πη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102280" y="31845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λε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5099040" y="36939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εβλε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5099040" y="4184640"/>
            <a:ext cx="2714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ελαμβαν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5099040" y="4700520"/>
            <a:ext cx="31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αλυπ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5102280" y="52070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νοι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5102280" y="571500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-112680" y="2412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 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8794ACDA-185B-4D48-AB16-05CB3CD7045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se verbs into the Aorist (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πτιζ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μ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λ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σσ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καλυπτ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ξαζ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5106960" y="217008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απτι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5102280" y="26654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εμ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5102280" y="31845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κο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099040" y="36939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λ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5099040" y="4184640"/>
            <a:ext cx="2714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ηρυ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5099040" y="4700520"/>
            <a:ext cx="31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εβλε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102280" y="52070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αλυ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102280" y="571500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οξα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ALING WITH THE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SUF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06204B4F-F198-4439-AD3E-8F108739C1D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tense are the following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ραζ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ω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ψ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ραψ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χ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εβλεπ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ισ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ηρυξε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5106960" y="2170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102280" y="26654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5102280" y="31845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5099040" y="3693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5099040" y="41846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5099040" y="47005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5102280" y="52070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5102280" y="5715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3:21:07Z</dcterms:created>
  <dc:creator>Sarah</dc:creator>
  <dc:description/>
  <dc:language>en-US</dc:language>
  <cp:lastModifiedBy>Sarah</cp:lastModifiedBy>
  <dcterms:modified xsi:type="dcterms:W3CDTF">2009-07-11T20:13:22Z</dcterms:modified>
  <cp:revision>53</cp:revision>
  <dc:subject/>
  <dc:title>Slide 1</dc:title>
</cp:coreProperties>
</file>